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816A-52DC-4C47-B6CB-1C76C114B936}" type="slidenum"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E773-690C-4A5E-9E1D-DCB449F1DAB9}" type="slidenum">
              <a:rPr b="0" lang="nn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72E4A-2D9B-4B3E-8D29-C48AF067D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E403-D01C-47D5-A68D-9B422B4B6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3C0E-0838-4442-9148-4C02BC1DD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B678-4EE8-4555-A9DF-8DD2DF9E3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53A84-415F-4CC7-9DB5-F19D1265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45BC3-9D48-4964-8301-81CE6EF2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FA9B0-FD85-4E37-8050-A5F7AC35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2509A-CA0B-4980-AB55-D6E18CAD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9BBA6-6CA0-4870-A600-D3EFB042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AE615-6104-4795-9FE8-9D33490F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30889-CFF3-4780-9077-F765DBC3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3F1F-0D63-4436-B758-B90C7A68F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D67B4-36CB-4449-AE12-287113DB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480E1-1344-4489-BD28-9803A9EF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D6644-1762-4C43-A866-1D4AFDC1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9051A-0FD2-49AC-AAEE-A40C6A84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6CFE0-4CF8-4EC0-AFC5-A022BD7F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5E9D-C33E-4A4B-9175-ED1119BCEE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BD940-C3DB-4200-A6D2-5120D47023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465CE-7806-4CA1-866E-995E3E4411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CC957-C512-4FF3-879A-34859EB00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8B33-42B6-41E7-8D42-5C577066A53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47731-E1F1-4830-B933-F1D890DE620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C82A6-8FF0-4760-AB03-276FE195B0B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54BDC-7049-4908-A3FD-F5DBC9A90C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EFA75-7356-4531-826A-83681BCB48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64284-F23B-48C3-BB42-732B4D67AE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13765-EAEF-48F7-A05E-A906AE07E3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749E9-138E-4FFD-9B5D-73510DDE396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59D99-F10A-4A87-84B4-D1B525FE49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DA284-72CE-4F45-9048-460C4B92068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2908-3C3B-4CF5-BB61-95A968EB534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C6F0-E16E-4623-B32B-42227DA6DE1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4772-9CF8-4A01-9840-16DE474D7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6CC6-C011-4204-B3F6-B3347A3D6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59EB-6D34-4C97-A897-90BB0642F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BB20-B619-4016-B3CF-6D731AA9C5B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87FD-5CDC-4F8D-8542-736FCA685C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5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AFA9-FE6B-413C-A791-D22BD09B353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4920" y="1768320"/>
            <a:ext cx="90709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Oswald Regular"/>
              </a:rPr>
              <a:t>Tema da Apresentaçã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520" y="3497400"/>
            <a:ext cx="90709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tillium Web"/>
              </a:rPr>
              <a:t>Nome Palest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Departamento do Palestr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email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941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swald Regular"/>
              </a:rPr>
              <a:t>Fontes utilizadas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Esta apresentação utiliza as seguintes fontes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Titillium Web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Oswald Regular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UbuntuMono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Você deve ter elas instaladas em seu computador.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713720" y="6527880"/>
            <a:ext cx="971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BBB5-EF6F-41E5-992B-111CE22A7D1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0:16:24Z</dcterms:created>
  <dc:creator>Even Gran</dc:creator>
  <dc:description/>
  <dc:language>en-US</dc:language>
  <cp:lastModifiedBy>Renato Novais</cp:lastModifiedBy>
  <cp:lastPrinted>2018-06-26T20:36:17Z</cp:lastPrinted>
  <dcterms:modified xsi:type="dcterms:W3CDTF">2018-07-04T18:06:47Z</dcterms:modified>
  <cp:revision>1686</cp:revision>
  <dc:subject/>
  <dc:title>Ingen lysbildetittel</dc:title>
</cp:coreProperties>
</file>